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0F1-011A-4C38-B78C-42FDFDFB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C92-3E56-4729-BCEC-0F461F69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E41-F76F-4A19-A961-0D47901A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EA7-C0AA-4E28-A055-56D77C52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0F77-9919-491F-A26A-32F1BEF5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75BE-F6D4-43BC-BC3F-10AAA730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1FAE-66C6-477B-A084-448740BB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6748-D30E-424C-952A-39A0BC18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30A9-7A0D-4A27-85BC-5059BAFC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3A13-3CAE-4C24-B91C-850C8638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180-0228-487A-A803-CDB1C5B5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BD3-A27B-4046-933B-5ACE35EF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533A-485A-4732-B8B1-32BFC02A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DDAD-76B5-4019-9288-EA3E813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2A02-A499-44A3-8C49-7F6E497E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2737-84CA-46A1-AC8B-CFFDFE1D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820F-977C-4CDB-BAB2-58C9A44C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878A-2060-485B-B103-7B9DC852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B2E5-D529-4A1E-9240-289C3349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0DE07-90E5-4DF0-9D9A-007E4EF4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8239-159B-4D7A-A24A-A37BCA19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0D39F-EC26-4120-83C7-68305685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470-9BC6-453C-98C8-4C9213C0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9C49-6490-427C-87F1-517704AF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05546-07F0-46CD-81F2-76548870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B0CA-2C30-41E3-AAD2-7F38434F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96BB-B8CE-4BCC-B1F0-F193F505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CE7A-7EE4-4A6E-9F94-E965D70F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DCC4-BCDC-4F6A-8B76-A760A4AA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215A-F5C7-4ECD-9A0E-F785796D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BE69-0A83-45A5-AB3F-A0FFFD68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F9E4B-9231-4C20-8809-24F27EA8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3AAF-61FC-47E4-83F7-C412AE2E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F48-B6F2-4A5B-B67B-6A9592F0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F24FB-42FD-41FD-8193-28CD9B0C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24C8E-8825-4614-8BE9-2C144C0C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3D9C-E6BB-4E67-B925-3C25F436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6F78-0C7A-4DEE-A41D-E2008193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96A8D-68D8-4493-ADC1-D95D0B8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0DF29-4C5D-4139-B4F7-853EB92B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DCEE-9475-4B34-81A8-2E114816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A9719-70AD-43F2-9775-D6BBBF99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5FEF-7178-439C-904B-DEFDB59D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CA888-2018-4A37-862F-6B3EDE2E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201-2086-4F53-B944-EBA4064D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C9E29-20E1-45BB-807F-3B0617AC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CC293-00B7-42B9-B4EE-6108B433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B84E9-4FDD-4904-8A54-B6155D43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297CD-48F4-4231-BCA1-EBAA3E0D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9B53F-220C-46BD-B59C-4C9E37FC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0EDC4-D3A3-4369-866D-1487E1F2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8370C-6E26-4040-B992-2D34A8F0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2B381-1D3E-4578-A844-24BB5850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4C47-5AF5-42DE-8CD3-F0320E05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693C-00C8-44E3-8A72-2F130DB8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BE7-7557-466E-819A-56743B60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1CB8-EFCE-4A8D-8C32-C94C6480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005-2B34-4687-A80D-9E55238B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46C-11C1-4F9B-8E67-14180737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9AC-A198-4291-BA67-C08A07A1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588A-DFD2-47C6-AE09-E303898817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5C64-CEEF-4160-B872-DFC9E94D215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5587-301F-457D-946D-DE2B592110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B8F7-47CD-4370-B6D0-2FFA533B786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758C-708B-4022-A60B-D0B6686DCDE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357200" y="1285920"/>
            <a:ext cx="650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«Качество образования – залог успеха школы»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642960" y="714240"/>
            <a:ext cx="8001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Цель:</a:t>
            </a:r>
            <a:r>
              <a:rPr b="0" lang="ru-RU" sz="5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проанализировать деятельность школы и найти пути повышения качества знаний обучающихся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00040" y="2357280"/>
          <a:ext cx="8072640" cy="2786400"/>
        </p:xfrm>
        <a:graphic>
          <a:graphicData uri="http://schemas.openxmlformats.org/drawingml/2006/table">
            <a:tbl>
              <a:tblPr/>
              <a:tblGrid>
                <a:gridCol w="1785960"/>
                <a:gridCol w="642960"/>
                <a:gridCol w="1857240"/>
                <a:gridCol w="506520"/>
                <a:gridCol w="824040"/>
                <a:gridCol w="822240"/>
                <a:gridCol w="817560"/>
                <a:gridCol w="816120"/>
              </a:tblGrid>
              <a:tr h="1114560">
                <a:tc gridSpan="2"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Успешно усвоили програм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Не успев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Усвоили программу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456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обучающие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обучающие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«4-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2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1"/>
          <p:cNvSpPr/>
          <p:nvPr/>
        </p:nvSpPr>
        <p:spPr>
          <a:xfrm>
            <a:off x="785880" y="718920"/>
            <a:ext cx="8001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b6431"/>
                </a:solidFill>
                <a:latin typeface="Times New Roman"/>
                <a:ea typeface="Calibri"/>
              </a:rPr>
              <a:t>Общие итоги результатов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b6431"/>
                </a:solidFill>
                <a:latin typeface="Times New Roman"/>
                <a:ea typeface="Calibri"/>
              </a:rPr>
              <a:t>образовательной деятельности в 2 - 9 класса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b6431"/>
                </a:solidFill>
                <a:latin typeface="Times New Roman"/>
                <a:ea typeface="Calibri"/>
              </a:rPr>
              <a:t>за 3 четверть 2011 – 2012 учебного го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357120" y="2928960"/>
          <a:ext cx="8429760" cy="2643120"/>
        </p:xfrm>
        <a:graphic>
          <a:graphicData uri="http://schemas.openxmlformats.org/drawingml/2006/table">
            <a:tbl>
              <a:tblPr/>
              <a:tblGrid>
                <a:gridCol w="517680"/>
                <a:gridCol w="515880"/>
                <a:gridCol w="465120"/>
                <a:gridCol w="287280"/>
                <a:gridCol w="500040"/>
                <a:gridCol w="611280"/>
                <a:gridCol w="517680"/>
                <a:gridCol w="515880"/>
                <a:gridCol w="498240"/>
                <a:gridCol w="285840"/>
                <a:gridCol w="409680"/>
                <a:gridCol w="514440"/>
                <a:gridCol w="515880"/>
                <a:gridCol w="466560"/>
                <a:gridCol w="517680"/>
                <a:gridCol w="260280"/>
                <a:gridCol w="492120"/>
                <a:gridCol w="538200"/>
              </a:tblGrid>
              <a:tr h="571320">
                <a:tc gridSpan="6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1 четверть 2011-20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уч.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2 четверть 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уч.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3 четверти 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уч.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1840">
                <a:tc gridSpan="2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Успешно усвоили програм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Не успева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Усвоили программу на «5» и «4-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Успешно усвоили пр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Не усп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Усвоили программу на «5» и «4-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Успешно усвоили рогра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Не усп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Усвоили программу на «5» и «4-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3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2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3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2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b6431"/>
                          </a:solidFill>
                          <a:latin typeface="Times New Roman"/>
                          <a:ea typeface="Calibri"/>
                        </a:rPr>
                        <a:t>3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Rectangle 1"/>
          <p:cNvSpPr/>
          <p:nvPr/>
        </p:nvSpPr>
        <p:spPr>
          <a:xfrm>
            <a:off x="357120" y="367920"/>
            <a:ext cx="84297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b6431"/>
                </a:solidFill>
                <a:latin typeface="Times New Roman"/>
                <a:ea typeface="Calibri"/>
              </a:rPr>
              <a:t>Сравнительный анализ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b6431"/>
                </a:solidFill>
                <a:latin typeface="Times New Roman"/>
                <a:ea typeface="Calibri"/>
              </a:rPr>
              <a:t>результатов образовательной деятель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b6431"/>
                </a:solidFill>
                <a:latin typeface="Times New Roman"/>
                <a:ea typeface="Calibri"/>
              </a:rPr>
              <a:t>1 четверти 2011 – 2012 учебного год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b6431"/>
                </a:solidFill>
                <a:latin typeface="Times New Roman"/>
                <a:ea typeface="Calibri"/>
              </a:rPr>
              <a:t> </a:t>
            </a:r>
            <a:r>
              <a:rPr b="1" lang="ru-RU" sz="2500" spc="-1" strike="noStrike">
                <a:solidFill>
                  <a:srgbClr val="3b6431"/>
                </a:solidFill>
                <a:latin typeface="Times New Roman"/>
                <a:ea typeface="Calibri"/>
              </a:rPr>
              <a:t>2 четверти 2011 – 2012 учебного год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b6431"/>
                </a:solidFill>
                <a:latin typeface="Times New Roman"/>
                <a:ea typeface="Calibri"/>
              </a:rPr>
              <a:t>и 3 четверти 2011 – 2012 учебного го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b6431"/>
                </a:solidFill>
                <a:latin typeface="Times New Roman"/>
                <a:ea typeface="Calibri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Диаграмма 1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28760" y="785880"/>
            <a:ext cx="842940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643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 </a:t>
            </a:r>
            <a:r>
              <a:rPr b="0" lang="ru-RU" sz="33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Квалифицированный педагогический состав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b643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 </a:t>
            </a:r>
            <a:r>
              <a:rPr b="0" lang="ru-RU" sz="33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Наличие современного учебного оборудования, средств обучения, применение новых педагогических технологий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b643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 </a:t>
            </a:r>
            <a:r>
              <a:rPr b="0" lang="ru-RU" sz="33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Существование благоприятных условий для обучения (школьная столовая, библиотека, спортивный зал и т.д.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b643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Благоприятная среда общения со сверстникам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714240" y="357120"/>
            <a:ext cx="8072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3b643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Определите цели, которые стоят перед школой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3b643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3b643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Что Вы подразумеваете под качеством образования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3b643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3b643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Каковы пути и условия достижения этого качества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8:30:08Z</dcterms:created>
  <dc:creator>Admin</dc:creator>
  <dc:description/>
  <dc:language>en-US</dc:language>
  <cp:lastModifiedBy>Admin</cp:lastModifiedBy>
  <dcterms:modified xsi:type="dcterms:W3CDTF">2012-03-29T20:02:20Z</dcterms:modified>
  <cp:revision>8</cp:revision>
  <dc:subject/>
  <dc:title>Слайд 1</dc:title>
</cp:coreProperties>
</file>